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6FC7-F9CC-41A7-92C5-D99F0EFE5D7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ECA4-A62E-4D27-90D6-81DC547C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0393-583F-442E-9A2A-24AA327A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D0D9-B964-46EA-988A-A2D8B4B8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446E-E0F4-4363-A59C-4CC5C022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9B8BC-3AD5-4D29-B9A0-CB4F62DE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D5B2B-375C-4B05-86CB-279DC60F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F9E6E-78D5-477F-A771-F9048852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FC3E4-89BA-4E2F-A6C4-6F95E9EA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BE354-FD04-470F-8443-5781D407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52B96-4331-4EE8-8BB5-90DE0D09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2EAD8-58A1-41FF-984A-1EF5FE36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E3C9-7BD2-4F45-B039-1B4F47E6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9B079-B0B7-40C2-BE28-E325F744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346EB-B564-4DE2-AB76-CBE3FBD8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2ACB0-2224-47CF-B092-63EEC4A8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F9F42-9004-42C1-A5D4-2BF20808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80586-396D-412C-8EED-38E86D3D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94B86D-AC3D-4F84-80B9-3933FF53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E31A92-0517-4711-B052-3AA7D333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F141C3-80F6-4F66-8E11-0AA909FD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2AEE8E-7F3E-457F-9E41-3D223BD7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B8CADC-B223-4205-8FD8-A2E77B83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4CF8-41F7-4A43-A6EF-77A49877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04569E-4665-41D7-AE7F-4B0D37AD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3E5FEC-7E9A-407B-AF71-C719DA20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40B1EE-5C20-4BC9-8663-CD116712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A302E5-407B-4E21-AB3C-5D74971C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07135F-F808-4575-8722-A54F9C1F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506195-8AA2-48D2-BE15-4706A73F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1F4C6D-8D03-4790-8E56-7E445B20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98177-300F-4B23-9A65-6152FEC9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B56E-4C75-4AF9-8356-96C49E0F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BB65-4BE8-40E5-AF6D-1E2FD581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A819-C92D-4717-AC93-20D00F5F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F74F-6391-4460-A881-D742133A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998D-D655-4C65-A238-00D8C2CE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70F6-EECF-4686-9B3C-9786C101DF44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4BE9-E410-4C31-9E22-308713E6B0E7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0C27-F37B-404F-A0B9-816B7D5AA4A6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220B-F5DE-4538-BE9A-B94784C4E8B1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58DB-1CE4-41A1-A5FA-10B16D5036C7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4827-4B60-4123-9E8D-9822240F69DF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chaffung eines Container - Tragwage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Berechn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1760" y="6093000"/>
            <a:ext cx="2797200" cy="461880"/>
            <a:chOff x="131760" y="6093000"/>
            <a:chExt cx="279720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760" y="6308640"/>
              <a:ext cx="278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de_2015-05-11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1760" y="6093000"/>
              <a:ext cx="82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kument 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F9D6-A223-4315-9E85-5EF54F97AEA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Alternative B  (Plan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9CE8-EE22-4DA6-A564-027B035E137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49"/>
          <p:cNvSpPr/>
          <p:nvPr/>
        </p:nvSpPr>
        <p:spPr>
          <a:xfrm rot="20397600">
            <a:off x="6312960" y="786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69840" y="2292480"/>
            <a:ext cx="97362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gebnisüberblick und Erläuter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itere notwendige Hebel / Aspek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wusst nicht berücksichtigte Aspekte haben folgenden Effekt:  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ä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pitalwer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ückgewinnungszei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Jahre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Break-even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Jah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positive Werte:  Erlöse,    negative Werte:  Aufwand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Rückgewinnungszeit:  Anzahl der Jahre bis die Planungsvariante sich rechnet. Sinngemäß auch mit Gewinnschwelle oder Break-Even bezeichnet.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Annuität:  durchschnittliche jährliche Kosten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8ABB-FC33-4B58-86CF-B5C28E6B6EF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nnzahl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antwortliche  Abteil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andhaltungs- Dokumentations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enquel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änderung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ungsvariante zu Weiterführungsvariant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nnzahl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ufleistung zwischen der Radreprofilier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D71C-04EE-4580-92BD-A4B303E8E6D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Ergebnisplanung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Delta der Variante „B“ zur Variante „A“ [= Null-Lini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5954-99FB-44D9-9B67-356E9EA4094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Textfeld 49"/>
          <p:cNvSpPr/>
          <p:nvPr/>
        </p:nvSpPr>
        <p:spPr>
          <a:xfrm rot="20397600">
            <a:off x="6161040" y="72360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46" name="Picture 11" descr=""/>
          <p:cNvPicPr/>
          <p:nvPr/>
        </p:nvPicPr>
        <p:blipFill>
          <a:blip r:embed="rId1"/>
          <a:stretch/>
        </p:blipFill>
        <p:spPr>
          <a:xfrm>
            <a:off x="930240" y="1488960"/>
            <a:ext cx="8010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Rückgewinnungszeit  (Break-even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0C95-5332-40BB-91FD-3AE65722621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Textfeld 49"/>
          <p:cNvSpPr/>
          <p:nvPr/>
        </p:nvSpPr>
        <p:spPr>
          <a:xfrm rot="20397600">
            <a:off x="5552280" y="38844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0" name="Picture 7" descr=""/>
          <p:cNvPicPr/>
          <p:nvPr/>
        </p:nvPicPr>
        <p:blipFill>
          <a:blip r:embed="rId1"/>
          <a:stretch/>
        </p:blipFill>
        <p:spPr>
          <a:xfrm>
            <a:off x="609480" y="1461960"/>
            <a:ext cx="861084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pfehl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e Beschaffung des Container-Tragwagens des Herstellers B wird empfoh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ewählte Variante / Empfehlung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grund der radial einstellbaren Radsätze ist die Verschleissrate der Räder geringer. Die Lebensdauer als auch die Reprofilierungszyklen sind dadurch deutlich lä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grund der höheren Qualität der Container Befestigungssystem ist der IH-Aufwand geringer gegenüber dem Container-Tragwagen des Herstellers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gründ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ückgewinnungszeit:  13 Jahr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lere Einsparung pro Jahr (Delta Annuität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lärung der finanziellen Option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raussetzungen für Umsetz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stellen eines Beschaffungszeitpla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ustimmung durch das Controlling einho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iteres Vorgehen                         Termin/Verantwortl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C72D-D438-4366-87D3-DB54B4CE625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abe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65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Erstellt v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erfolgung der Umsetzung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68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69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0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1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Herstell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2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3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74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5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6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9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0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1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2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85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Freigegeben von Auftraggeber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86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87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8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2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393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4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5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9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0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1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06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3794-C86A-4242-A589-C826FACFEFE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schaffung von 85 neuen 60’ - Container – Trag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h erfolgter Qualitätsprüfung durch den Betreiber (Quality gate), verbleiben nur noch die Container – Tragwagen der beiden Anbieter A und B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nde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antwortung LCC-Berechnung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Auftrag v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09.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Fertigstellung 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.01.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Die Lebenszykluskosten (LCC) der beiden verbliebenen Varianten sind zu kalkulier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Kunde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usgangs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- Aufgabenstell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ckbrief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steller der LCC-Berechnung, Termin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6600" y="6419880"/>
            <a:ext cx="583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ziert,  A = Abgestimmt  E = Entschieden,  V = Voraussetzung geschaffe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k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E          V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E6BA-9318-4ABF-8014-3E0E3FE5F4F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-Rahm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levant, aber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ßerhal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nerhalb 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stgelegt am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urch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41600" y="2448000"/>
            <a:ext cx="15494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i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41600" y="3286080"/>
            <a:ext cx="15494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Container Befestigungs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6888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 Radsatzwechsel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68880" y="328608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 Sgns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67080" y="4116240"/>
            <a:ext cx="143856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49520" y="4103640"/>
            <a:ext cx="1547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 380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 anderer Komponenten des Wagen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ieverbrauch während des Betieb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ktur - Nutzungsentgel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adung / Entladu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Geschwindigkeit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0638-7CEB-478B-B54D-AB12D307BA1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uktur des Produktionsmittels / Systemzusammenhänge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rahmen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bautei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werk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dsatz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907720" y="4218840"/>
            <a:ext cx="178020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907720" y="5515920"/>
            <a:ext cx="178020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Befestig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9FB1-7366-4CC7-B5B1-B2BBC60C7AD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49"/>
          <p:cNvSpPr/>
          <p:nvPr/>
        </p:nvSpPr>
        <p:spPr>
          <a:xfrm rot="20397600">
            <a:off x="675288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roffene LCC-Kostenblöck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5E18-424D-4BF2-9774-52C4B76588B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feld 49"/>
          <p:cNvSpPr/>
          <p:nvPr/>
        </p:nvSpPr>
        <p:spPr>
          <a:xfrm rot="20397600">
            <a:off x="553356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32" name="Picture 20" descr=""/>
          <p:cNvPicPr/>
          <p:nvPr/>
        </p:nvPicPr>
        <p:blipFill>
          <a:blip r:embed="rId1"/>
          <a:stretch/>
        </p:blipFill>
        <p:spPr>
          <a:xfrm>
            <a:off x="104760" y="1550880"/>
            <a:ext cx="9698040" cy="500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2"/>
          <p:cNvSpPr/>
          <p:nvPr/>
        </p:nvSpPr>
        <p:spPr>
          <a:xfrm>
            <a:off x="271440" y="3789360"/>
            <a:ext cx="21826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5076720" y="3068640"/>
            <a:ext cx="22114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5105520" y="39654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ielsetzung &amp; Kurzbeschreibung je Variant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ielsetz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reduziertem Instandhaltungsaufwan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bekannten Eigenschaften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rzbeschreibung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glichen mit den existieren Wagentypen sind die Lebensdauer der Räder als auch die Reprofilierungszyklen größer.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Zuverlässigkeit der Container –Besfestigung ist signifikant höher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niedrigeren Investitionskosten führen zu ähnlich hohen Instandhaltungskosten, wie derzeit üblich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91F2-12D9-4736-8347-01B4A82EC18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Textfeld 49"/>
          <p:cNvSpPr/>
          <p:nvPr/>
        </p:nvSpPr>
        <p:spPr>
          <a:xfrm rot="20397600">
            <a:off x="568620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arianten: Nennung der wesentlichen Unterschie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kulationszinssatz::            10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srate:                           3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ebensdauer des Waggons:   25 Jah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tlere Jahreslaufleiistung:   115.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nahmen bleiben unverändert und gleich hoch für beide Varianten. Deshalb wird ausschließlich die Kostenstruktur der beiden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ianten verglich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inweise auf allgemeine Annahmen für alle Varianten, Erläuterungen und kritische Faktore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Radsätz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hrwerks - Typ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ehgestell mit zwei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ehgestell mit zwei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 der Container-Besfestig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bessert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Container-Befestigungen pro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82CA-A4E3-49C4-ACBE-B4A241A1FD1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Textfeld 49"/>
          <p:cNvSpPr/>
          <p:nvPr/>
        </p:nvSpPr>
        <p:spPr>
          <a:xfrm rot="20397600">
            <a:off x="6017400" y="399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fstellung der Kostendat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sten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.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.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Radwechs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92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rsatz der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18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9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Korrektive Instandhaltung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dsatz - Reprofilier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5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7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EB71-8D6D-4D45-B59C-88D42B74FBE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Variante A (Weiterführ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A639-FD38-4EDA-AA03-CC05ED75D62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Textfeld 49"/>
          <p:cNvSpPr/>
          <p:nvPr/>
        </p:nvSpPr>
        <p:spPr>
          <a:xfrm rot="20397600">
            <a:off x="6313320" y="936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49320" y="2187720"/>
            <a:ext cx="9829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7T22:18:58Z</dcterms:modified>
  <cp:revision>109</cp:revision>
  <dc:subject/>
  <dc:title>Slide 0</dc:title>
</cp:coreProperties>
</file>