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AE4C-BCE1-47C0-B3E6-37D11A7AFCF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erh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einige Fragestellungen wird die Datengrundlage nicht den Anforderungen entsprechen. In diesem Fall muss eine Datenerhebung angestoßen werden. Dies kann erhebliche Auswirkungen auf den Zeitbedarf für den Gesamtprozess ha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blätter zur Erhebung des korrektiven und präventiven Instandhaltungsaufwands im Rahmen von Ausschreibungen dem Hersteller übermitteln  („060411_Datenblätter_LCC_DBAG.xls “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mulare (selbst erstellt) zur Datenerfassung aufstellen und vor Ort auf ihre Praktikabilität überprüf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erhebung anstoßen bzw. durchfüh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und Ergebnisse aus der Vergangenheit sind genau auf Ihre Übertrag- bzw. Verwendbarkeit zu überprüfen. Dies gilt insbesondere deshalb, da es sich bei fast allen LCC-Aussagen um Vergleichsbetrachtungen hande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n richtigen Zeithorizont für die Identifikation der Auswirkungen festle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istierende Datensysteme und Aufzeichnungen erfr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auf Vollständigkeit und Qualitä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systeme auf Verifikationstauglichkei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enntnis über die Brauchbarkeit der Daten für die Analyse und die Vertragsverifik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. B. ISI(SAP)-Daten betrachten, Aufzeichnungen der Werke abfrage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ordnung der Tätigkeitsbezeichnungen / Materialbezeichnungen zu den Kostenblöcken. (Zuordnungsmatrix noch nicht überall vorhand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verlässigkeiten festste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swertung der verfügbaren Datenlage und Expertenwissen (z. B. System- und Modulbetreuer) zur Festlegung der Nutzungsdauer. (Differenzen zwischen technischer Lebensdauer und kaufmännische Nutzungsdauer sind zu beacht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die Unterstützung bei der Erhebung und Analyse von Daten können die OEen TZF 11, TZF 62 etc. kontaktiert we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Times New Roman"/>
              </a:rPr>
              <a:t>Zahlungsreihe ausfüll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Bestimmung des jeweiligen LCC-Wertes (Barwertes bzw. Kapitalwert) für alle Varian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Je Variante werden die Jahreswerte je Kostenblock (Zeile) (z. B. aus der Nebenrechnung) in die Zahlungsreihe eintra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azu sind die ermittelten Häufigkeiten (z. B. auf Basis von Zuverlässigkeiten) je Leistungseinheit mit den ermittelten Kosten oder vorhandenen Standardwerten zu multiplizieren und auf die Jahresscheibe umzurech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Hierzu werden in den meisten Fällen Nebenrechnungen notwendig sein, die auch zur Dokumentation dienen können (siehe „Nebenrechnung durchführen“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iskontierung und Teuerung sind gemäß Konzernvorgabe zu berücksichtigen und bereits im LCC-Taschenrechner hinterle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Weitere Hilfestellungen sind in der Excel-Datei LCC-Taschenrechner auf dem entsprechenden Reiter zu find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A1407-AF77-4879-926B-49633BB7B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7923A-76FB-4250-AD54-702E8BD5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911CB-D56E-4639-8F7C-C7384A16F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2042D-E2C8-46FB-AFCA-678A394E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4B295-BD5F-407D-AF33-4090E110D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D02D2-0B5E-4676-891A-F5ADE560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F6A3A-4D9C-40D6-9ACB-24F49F97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3601F-51D8-4510-9DBA-B65D32AC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B5D72-DDBD-4904-AC3F-0103C4B8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0501B-677A-4214-8E36-642D97E8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6CE5B-00A6-4FF5-B35D-A11002CB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F523B-1C98-483C-8A06-20006870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C73AF-34DB-4686-B501-1A01F378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2FC3D-2698-4300-95D0-3CA390B8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AC6E8-57F4-4A98-A1EB-6D0417A7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01ADB-546E-474A-8301-332791EB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3AE78-C497-4957-9C04-15B1D1F17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2B5476-B051-484C-8ECA-289B9632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D9A1D6-04E7-4F17-AD61-B456DA5C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5DA6E8-674A-45B5-9C08-CF129A8F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4F1C7F-BBF8-4843-A0CC-E2BDDE97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10EB6D-10AF-405F-A29A-8DFAB89C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A29DF-72D4-49DF-9F2A-10F88130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06FF49-01A3-42E3-BE8F-D300256F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11C9DC-D5F7-4F72-8532-ACC82ED4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6DBBA2-3BC0-4450-AF7B-0865E16A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02DEFA-8FDB-4790-BA0D-7552D000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E3BAB9-59E3-4896-802D-35932AA7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8A8E02-F72B-46DC-A256-F57E702E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72EF6D-B567-49AD-8948-CF0E940EA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1000D-275D-4934-A4B1-702D43A6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00DCC-C70F-4E01-AB17-9C4BC989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8AEB4-0FE5-4ED3-9DC8-4B5720DA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0F231-54C8-46F0-825F-CB62DDDB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6FEC8-4A7A-4228-B3D1-33523B11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7822A-25F9-4A5D-9EF8-84E1F102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826F-12A6-438D-8347-9CC0EE1A6039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41B5-AD36-4564-AAEC-A083A2C538F8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28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2"/>
          <a:stretch/>
        </p:blipFill>
        <p:spPr>
          <a:xfrm>
            <a:off x="8283600" y="66600"/>
            <a:ext cx="157176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44830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FE79-C1A6-4F7F-BC9A-298FF9AFABA9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0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52" name="PlaceHolder 5"/>
          <p:cNvSpPr>
            <a:spLocks noGrp="1"/>
          </p:cNvSpPr>
          <p:nvPr>
            <p:ph type="dt" idx="6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E64E-930C-4DE2-B90F-0E8CDBB221A1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28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184720" y="1557360"/>
            <a:ext cx="44848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7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6FA5-6A1E-4DD0-8E7A-D794DFD4B14B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94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96" name="Picture 13" descr="DB-MNL_rgb_M"/>
          <p:cNvPicPr/>
          <p:nvPr/>
        </p:nvPicPr>
        <p:blipFill>
          <a:blip r:embed="rId2"/>
          <a:srcRect l="-2385" t="-46598" r="-16813" b="-13886"/>
          <a:stretch/>
        </p:blipFill>
        <p:spPr>
          <a:xfrm>
            <a:off x="8481960" y="0"/>
            <a:ext cx="1425600" cy="619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5"/>
          <p:cNvSpPr>
            <a:spLocks noGrp="1"/>
          </p:cNvSpPr>
          <p:nvPr>
            <p:ph type="dt" idx="9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4491-5659-492B-9C5A-902660CC8BA9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28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635880"/>
            <a:ext cx="9904320" cy="22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2" name="Ortbox"/>
          <p:cNvSpPr/>
          <p:nvPr/>
        </p:nvSpPr>
        <p:spPr>
          <a:xfrm>
            <a:off x="6537240" y="643716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uk, 20-01-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3" name="OEBox"/>
          <p:cNvSpPr/>
          <p:nvPr/>
        </p:nvSpPr>
        <p:spPr>
          <a:xfrm>
            <a:off x="6537240" y="5589720"/>
            <a:ext cx="336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land Railwa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4" name="Referentbox"/>
          <p:cNvSpPr/>
          <p:nvPr/>
        </p:nvSpPr>
        <p:spPr>
          <a:xfrm>
            <a:off x="6537240" y="587700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6537240" y="556092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6537240" y="585000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6537240" y="613728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6537240" y="642636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9" name="OEBox_2"/>
          <p:cNvSpPr/>
          <p:nvPr/>
        </p:nvSpPr>
        <p:spPr>
          <a:xfrm>
            <a:off x="6537240" y="6165720"/>
            <a:ext cx="3368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YZ 99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0" y="722160"/>
            <a:ext cx="752796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1" name="Titelbox"/>
          <p:cNvSpPr/>
          <p:nvPr/>
        </p:nvSpPr>
        <p:spPr>
          <a:xfrm>
            <a:off x="276120" y="2997360"/>
            <a:ext cx="460872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rchase of Container Wagon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2" name="Titelbox"/>
          <p:cNvSpPr/>
          <p:nvPr/>
        </p:nvSpPr>
        <p:spPr>
          <a:xfrm>
            <a:off x="272880" y="2527200"/>
            <a:ext cx="367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CC Calcul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53" name="Group 16"/>
          <p:cNvGrpSpPr/>
          <p:nvPr/>
        </p:nvGrpSpPr>
        <p:grpSpPr>
          <a:xfrm>
            <a:off x="134280" y="6093000"/>
            <a:ext cx="2654280" cy="461880"/>
            <a:chOff x="134280" y="6093000"/>
            <a:chExt cx="2654280" cy="461880"/>
          </a:xfrm>
        </p:grpSpPr>
        <p:sp>
          <p:nvSpPr>
            <p:cNvPr id="154" name="Text Box 17"/>
            <p:cNvSpPr/>
            <p:nvPr/>
          </p:nvSpPr>
          <p:spPr>
            <a:xfrm>
              <a:off x="140400" y="6308640"/>
              <a:ext cx="264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CC-Presentation-charts_UIC__2015-01-20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55" name="Text Box 18"/>
            <p:cNvSpPr/>
            <p:nvPr/>
          </p:nvSpPr>
          <p:spPr>
            <a:xfrm>
              <a:off x="134280" y="6093000"/>
              <a:ext cx="102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Document title: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156" name="Picture 20" descr="09_Innotrans-2010 030"/>
          <p:cNvPicPr/>
          <p:nvPr/>
        </p:nvPicPr>
        <p:blipFill>
          <a:blip r:embed="rId1"/>
          <a:srcRect l="0" t="31651" r="12724" b="17582"/>
          <a:stretch/>
        </p:blipFill>
        <p:spPr>
          <a:xfrm>
            <a:off x="4305240" y="2421000"/>
            <a:ext cx="5327640" cy="2325600"/>
          </a:xfrm>
          <a:prstGeom prst="rect">
            <a:avLst/>
          </a:prstGeom>
          <a:ln w="0">
            <a:noFill/>
          </a:ln>
        </p:spPr>
      </p:pic>
      <p:sp>
        <p:nvSpPr>
          <p:cNvPr id="15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9F9D-7901-42EF-823B-0D4549C0619A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8" name="Textfeld 20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895320" y="1916280"/>
            <a:ext cx="81914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ble of values and net present value of variant B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692F-5B17-49B7-8DA3-674EB258B30C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4" name="Textfeld 5"/>
          <p:cNvSpPr/>
          <p:nvPr/>
        </p:nvSpPr>
        <p:spPr>
          <a:xfrm rot="20397600">
            <a:off x="64339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05" name="Picture 7" descr=""/>
          <p:cNvPicPr/>
          <p:nvPr/>
        </p:nvPicPr>
        <p:blipFill>
          <a:blip r:embed="rId1"/>
          <a:stretch/>
        </p:blipFill>
        <p:spPr>
          <a:xfrm>
            <a:off x="22320" y="2255760"/>
            <a:ext cx="988380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2000" y="388440"/>
            <a:ext cx="8137440" cy="3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verview of results and comment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4240" y="4508640"/>
            <a:ext cx="9712080" cy="158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ther essential aspect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pects intentionally left out of the analysis, the impact of which is as follows: (…)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4240" y="412740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311940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79200" y="3413160"/>
            <a:ext cx="2962440" cy="5936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nuity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5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626112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317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626112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312120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585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79200" y="205884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t present value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3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626112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3,644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312120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6,079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7" name="Rectangle 13"/>
          <p:cNvSpPr/>
          <p:nvPr/>
        </p:nvSpPr>
        <p:spPr>
          <a:xfrm>
            <a:off x="79200" y="273672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reak-even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4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[years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8" name="Rectangle 14"/>
          <p:cNvSpPr/>
          <p:nvPr/>
        </p:nvSpPr>
        <p:spPr>
          <a:xfrm>
            <a:off x="6261120" y="273672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3 year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9" name="Text Box 15"/>
          <p:cNvSpPr/>
          <p:nvPr/>
        </p:nvSpPr>
        <p:spPr>
          <a:xfrm>
            <a:off x="0" y="6081840"/>
            <a:ext cx="97394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positive value:  revenue,    negative values:  cost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break-even:   number of years until the alternative option becomes advantageou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annuity:  average annual cost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03FE-D44C-4FD6-A42E-01A1CAAB1AB2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1" name="Textfeld 16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y Performance Indicator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3355920" y="1557360"/>
            <a:ext cx="176688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sponsible Departmen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5181480" y="23130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intenance documentation system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7953480" y="231300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5181480" y="1557360"/>
            <a:ext cx="272412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ata Origi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7953480" y="1557360"/>
            <a:ext cx="17985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ariation [%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alternative option to basic op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3357720" y="23130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CD 31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5181480" y="28908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3357720" y="28908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5181480" y="346716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3357720" y="346716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196920" y="1549440"/>
            <a:ext cx="30909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Key Performance Indicato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4" name="Rectangle 14"/>
          <p:cNvSpPr/>
          <p:nvPr/>
        </p:nvSpPr>
        <p:spPr>
          <a:xfrm>
            <a:off x="198360" y="23050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leage between reprofiling wheel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198360" y="28828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6" name="Rectangle 16"/>
          <p:cNvSpPr/>
          <p:nvPr/>
        </p:nvSpPr>
        <p:spPr>
          <a:xfrm>
            <a:off x="198360" y="3459240"/>
            <a:ext cx="30909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7" name="Rectangle 17"/>
          <p:cNvSpPr/>
          <p:nvPr/>
        </p:nvSpPr>
        <p:spPr>
          <a:xfrm>
            <a:off x="122400" y="4941720"/>
            <a:ext cx="9712080" cy="151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8" name="Rectangle 18"/>
          <p:cNvSpPr/>
          <p:nvPr/>
        </p:nvSpPr>
        <p:spPr>
          <a:xfrm>
            <a:off x="122400" y="456876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9" name="Rectangle 19"/>
          <p:cNvSpPr/>
          <p:nvPr/>
        </p:nvSpPr>
        <p:spPr>
          <a:xfrm>
            <a:off x="8353080" y="24210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10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0" name="Rectangle 20"/>
          <p:cNvSpPr/>
          <p:nvPr/>
        </p:nvSpPr>
        <p:spPr>
          <a:xfrm>
            <a:off x="7953480" y="289548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1" name="Rectangle 21"/>
          <p:cNvSpPr/>
          <p:nvPr/>
        </p:nvSpPr>
        <p:spPr>
          <a:xfrm>
            <a:off x="7948440" y="3471840"/>
            <a:ext cx="17989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2" name="AutoShape 22"/>
          <p:cNvSpPr/>
          <p:nvPr/>
        </p:nvSpPr>
        <p:spPr>
          <a:xfrm rot="18915000">
            <a:off x="9158400" y="3492000"/>
            <a:ext cx="361800" cy="419400"/>
          </a:xfrm>
          <a:prstGeom prst="downArrow">
            <a:avLst>
              <a:gd name="adj1" fmla="val 50000"/>
              <a:gd name="adj2" fmla="val 27671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3" name="Rectangle 23"/>
          <p:cNvSpPr/>
          <p:nvPr/>
        </p:nvSpPr>
        <p:spPr>
          <a:xfrm>
            <a:off x="8139240" y="355932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4" name="AutoShape 24"/>
          <p:cNvSpPr/>
          <p:nvPr/>
        </p:nvSpPr>
        <p:spPr>
          <a:xfrm rot="18915000">
            <a:off x="9144000" y="2914200"/>
            <a:ext cx="361800" cy="419040"/>
          </a:xfrm>
          <a:prstGeom prst="downArrow">
            <a:avLst>
              <a:gd name="adj1" fmla="val 50000"/>
              <a:gd name="adj2" fmla="val 27647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5" name="Rectangle 25"/>
          <p:cNvSpPr/>
          <p:nvPr/>
        </p:nvSpPr>
        <p:spPr>
          <a:xfrm>
            <a:off x="8139240" y="298116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6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26E7-A95A-49F5-9636-A1D036BBB48C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7" name="Textfeld 1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200160" y="404640"/>
            <a:ext cx="835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fit-and-loss chart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Delta of variant “B” in relation to variant “A” [= zero line])</a:t>
            </a:r>
            <a:endParaRPr b="1" lang="en-US" sz="13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9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68F8-4358-4719-A4C0-B66DE7D2FDB4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0" name="AutoShape 6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1" name="AutoShape 302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2" name="AutoShape 598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3" name="Picture 303" descr=""/>
          <p:cNvPicPr/>
          <p:nvPr/>
        </p:nvPicPr>
        <p:blipFill>
          <a:blip r:embed="rId1"/>
          <a:stretch/>
        </p:blipFill>
        <p:spPr>
          <a:xfrm>
            <a:off x="878040" y="1446120"/>
            <a:ext cx="8132760" cy="5189760"/>
          </a:xfrm>
          <a:prstGeom prst="rect">
            <a:avLst/>
          </a:prstGeom>
          <a:ln w="0">
            <a:noFill/>
          </a:ln>
        </p:spPr>
      </p:pic>
      <p:sp>
        <p:nvSpPr>
          <p:cNvPr id="354" name="Textfeld 4"/>
          <p:cNvSpPr/>
          <p:nvPr/>
        </p:nvSpPr>
        <p:spPr>
          <a:xfrm rot="20397600">
            <a:off x="6205320" y="58068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reak-even char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6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FB34-BFE1-4507-A7A8-7A94C618850F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7" name="Textfeld 4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8" name="Picture 6" descr=""/>
          <p:cNvPicPr/>
          <p:nvPr/>
        </p:nvPicPr>
        <p:blipFill>
          <a:blip r:embed="rId1"/>
          <a:stretch/>
        </p:blipFill>
        <p:spPr>
          <a:xfrm>
            <a:off x="649440" y="1447920"/>
            <a:ext cx="8597880" cy="516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65240" y="1841400"/>
            <a:ext cx="9469440" cy="79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is recommended to purchase the container wagon made by company B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165240" y="1465200"/>
            <a:ext cx="946944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lected Option / Recommend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177840" y="3084480"/>
            <a:ext cx="6335640" cy="12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 fontScale="98000"/>
          </a:bodyPr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ecause of the radial adjustability of the wheelsets, the wear rate of the wheels is lower and the lifetime of the wheels and the reprofiling cycle are therefore considerably longer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ue to the higher quality of the container locks, maintenance expenditure is lower compared with the container wagon made by company A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177840" y="2708280"/>
            <a:ext cx="94676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planatory Statement 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6669000" y="3094200"/>
            <a:ext cx="2982960" cy="12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reak-even:     13 year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verage Annual Savings     (Delta Annuity):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70 € per wa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16524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rify financial option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16524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econdition for Implement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497052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a purchase time schedule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btain approval from financial controlling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497052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urther Procedure        Target Date / Responsibilitie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9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B169-B3BB-4314-B3E7-CCDFD315DB6B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0" name="Textfeld 12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pproval statu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372" name="Group 3"/>
          <p:cNvGrpSpPr/>
          <p:nvPr/>
        </p:nvGrpSpPr>
        <p:grpSpPr>
          <a:xfrm>
            <a:off x="157320" y="1484280"/>
            <a:ext cx="9578880" cy="5126040"/>
            <a:chOff x="157320" y="1484280"/>
            <a:chExt cx="9578880" cy="5126040"/>
          </a:xfrm>
        </p:grpSpPr>
        <p:sp>
          <p:nvSpPr>
            <p:cNvPr id="373" name="Rectangle 4"/>
            <p:cNvSpPr/>
            <p:nvPr/>
          </p:nvSpPr>
          <p:spPr>
            <a:xfrm>
              <a:off x="157320" y="1484280"/>
              <a:ext cx="957276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Compiled by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374" name="Rectangle 5"/>
            <p:cNvSpPr/>
            <p:nvPr/>
          </p:nvSpPr>
          <p:spPr>
            <a:xfrm>
              <a:off x="160560" y="4897440"/>
              <a:ext cx="9572400" cy="395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Traceability of implementation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75" name="Group 6"/>
            <p:cNvGrpSpPr/>
            <p:nvPr/>
          </p:nvGrpSpPr>
          <p:grpSpPr>
            <a:xfrm>
              <a:off x="227160" y="1922400"/>
              <a:ext cx="9429840" cy="503280"/>
              <a:chOff x="227160" y="1922400"/>
              <a:chExt cx="9429840" cy="503280"/>
            </a:xfrm>
          </p:grpSpPr>
          <p:sp>
            <p:nvSpPr>
              <p:cNvPr id="376" name="Rectangle 7"/>
              <p:cNvSpPr/>
              <p:nvPr/>
            </p:nvSpPr>
            <p:spPr>
              <a:xfrm>
                <a:off x="3167280" y="197460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XYZ 99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7" name="Rectangle 8"/>
              <p:cNvSpPr/>
              <p:nvPr/>
            </p:nvSpPr>
            <p:spPr>
              <a:xfrm>
                <a:off x="4532760" y="197460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ldwin Brown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8" name="Rectangle 9"/>
              <p:cNvSpPr/>
              <p:nvPr/>
            </p:nvSpPr>
            <p:spPr>
              <a:xfrm>
                <a:off x="7880760" y="197460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10/01/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9" name="Rectangle 10"/>
              <p:cNvSpPr/>
              <p:nvPr/>
            </p:nvSpPr>
            <p:spPr>
              <a:xfrm>
                <a:off x="290880" y="197460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 of Rail Technology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0" name="Rectangle 11"/>
              <p:cNvSpPr/>
              <p:nvPr/>
            </p:nvSpPr>
            <p:spPr>
              <a:xfrm>
                <a:off x="227160" y="192240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81" name="Group 12"/>
            <p:cNvGrpSpPr/>
            <p:nvPr/>
          </p:nvGrpSpPr>
          <p:grpSpPr>
            <a:xfrm>
              <a:off x="231840" y="2474640"/>
              <a:ext cx="9429840" cy="503280"/>
              <a:chOff x="231840" y="2474640"/>
              <a:chExt cx="9429840" cy="503280"/>
            </a:xfrm>
          </p:grpSpPr>
          <p:sp>
            <p:nvSpPr>
              <p:cNvPr id="382" name="Rectangle 13"/>
              <p:cNvSpPr/>
              <p:nvPr/>
            </p:nvSpPr>
            <p:spPr>
              <a:xfrm>
                <a:off x="3171960" y="25268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3" name="Rectangle 14"/>
              <p:cNvSpPr/>
              <p:nvPr/>
            </p:nvSpPr>
            <p:spPr>
              <a:xfrm>
                <a:off x="4537440" y="25268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4" name="Rectangle 15"/>
              <p:cNvSpPr/>
              <p:nvPr/>
            </p:nvSpPr>
            <p:spPr>
              <a:xfrm>
                <a:off x="7885440" y="25268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5" name="Rectangle 16"/>
              <p:cNvSpPr/>
              <p:nvPr/>
            </p:nvSpPr>
            <p:spPr>
              <a:xfrm>
                <a:off x="295560" y="25268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6" name="Rectangle 17"/>
              <p:cNvSpPr/>
              <p:nvPr/>
            </p:nvSpPr>
            <p:spPr>
              <a:xfrm>
                <a:off x="231840" y="24746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87" name="Group 18"/>
            <p:cNvGrpSpPr/>
            <p:nvPr/>
          </p:nvGrpSpPr>
          <p:grpSpPr>
            <a:xfrm>
              <a:off x="235080" y="3012840"/>
              <a:ext cx="9429840" cy="503280"/>
              <a:chOff x="235080" y="3012840"/>
              <a:chExt cx="9429840" cy="503280"/>
            </a:xfrm>
          </p:grpSpPr>
          <p:sp>
            <p:nvSpPr>
              <p:cNvPr id="388" name="Rectangle 19"/>
              <p:cNvSpPr/>
              <p:nvPr/>
            </p:nvSpPr>
            <p:spPr>
              <a:xfrm>
                <a:off x="3175200" y="30650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9" name="Rectangle 20"/>
              <p:cNvSpPr/>
              <p:nvPr/>
            </p:nvSpPr>
            <p:spPr>
              <a:xfrm>
                <a:off x="4540680" y="30650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0" name="Rectangle 21"/>
              <p:cNvSpPr/>
              <p:nvPr/>
            </p:nvSpPr>
            <p:spPr>
              <a:xfrm>
                <a:off x="7888680" y="30650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1" name="Rectangle 22"/>
              <p:cNvSpPr/>
              <p:nvPr/>
            </p:nvSpPr>
            <p:spPr>
              <a:xfrm>
                <a:off x="298800" y="30650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2" name="Rectangle 23"/>
              <p:cNvSpPr/>
              <p:nvPr/>
            </p:nvSpPr>
            <p:spPr>
              <a:xfrm>
                <a:off x="235080" y="30128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393" name="Rectangle 24"/>
            <p:cNvSpPr/>
            <p:nvPr/>
          </p:nvSpPr>
          <p:spPr>
            <a:xfrm>
              <a:off x="163800" y="3673440"/>
              <a:ext cx="957240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Validated by client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94" name="Group 25"/>
            <p:cNvGrpSpPr/>
            <p:nvPr/>
          </p:nvGrpSpPr>
          <p:grpSpPr>
            <a:xfrm>
              <a:off x="246240" y="4116240"/>
              <a:ext cx="9429840" cy="503280"/>
              <a:chOff x="246240" y="4116240"/>
              <a:chExt cx="9429840" cy="503280"/>
            </a:xfrm>
          </p:grpSpPr>
          <p:sp>
            <p:nvSpPr>
              <p:cNvPr id="395" name="Rectangle 26"/>
              <p:cNvSpPr/>
              <p:nvPr/>
            </p:nvSpPr>
            <p:spPr>
              <a:xfrm>
                <a:off x="3186360" y="4168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CD 2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6" name="Rectangle 27"/>
              <p:cNvSpPr/>
              <p:nvPr/>
            </p:nvSpPr>
            <p:spPr>
              <a:xfrm>
                <a:off x="4551840" y="41684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Susan Smith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7" name="Rectangle 28"/>
              <p:cNvSpPr/>
              <p:nvPr/>
            </p:nvSpPr>
            <p:spPr>
              <a:xfrm>
                <a:off x="7899840" y="4168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20/01/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8" name="Rectangle 29"/>
              <p:cNvSpPr/>
              <p:nvPr/>
            </p:nvSpPr>
            <p:spPr>
              <a:xfrm>
                <a:off x="309960" y="4168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Rail Operato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9" name="Rectangle 30"/>
              <p:cNvSpPr/>
              <p:nvPr/>
            </p:nvSpPr>
            <p:spPr>
              <a:xfrm>
                <a:off x="246240" y="41162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400" name="Group 31"/>
            <p:cNvGrpSpPr/>
            <p:nvPr/>
          </p:nvGrpSpPr>
          <p:grpSpPr>
            <a:xfrm>
              <a:off x="239760" y="5313240"/>
              <a:ext cx="9429480" cy="530280"/>
              <a:chOff x="239760" y="5313240"/>
              <a:chExt cx="9429480" cy="530280"/>
            </a:xfrm>
          </p:grpSpPr>
          <p:sp>
            <p:nvSpPr>
              <p:cNvPr id="401" name="Rectangle 32"/>
              <p:cNvSpPr/>
              <p:nvPr/>
            </p:nvSpPr>
            <p:spPr>
              <a:xfrm>
                <a:off x="3179520" y="5392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2" name="Rectangle 33"/>
              <p:cNvSpPr/>
              <p:nvPr/>
            </p:nvSpPr>
            <p:spPr>
              <a:xfrm>
                <a:off x="4545000" y="539244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3" name="Rectangle 34"/>
              <p:cNvSpPr/>
              <p:nvPr/>
            </p:nvSpPr>
            <p:spPr>
              <a:xfrm>
                <a:off x="7893000" y="5392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4" name="Rectangle 35"/>
              <p:cNvSpPr/>
              <p:nvPr/>
            </p:nvSpPr>
            <p:spPr>
              <a:xfrm>
                <a:off x="303120" y="5392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Rail Operato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5" name="Rectangle 36"/>
              <p:cNvSpPr/>
              <p:nvPr/>
            </p:nvSpPr>
            <p:spPr>
              <a:xfrm>
                <a:off x="239760" y="534024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6" name="Text Box 37"/>
              <p:cNvSpPr/>
              <p:nvPr/>
            </p:nvSpPr>
            <p:spPr>
              <a:xfrm>
                <a:off x="7656480" y="531324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407" name="Group 38"/>
            <p:cNvGrpSpPr/>
            <p:nvPr/>
          </p:nvGrpSpPr>
          <p:grpSpPr>
            <a:xfrm>
              <a:off x="243000" y="5883120"/>
              <a:ext cx="9429480" cy="514440"/>
              <a:chOff x="243000" y="5883120"/>
              <a:chExt cx="9429480" cy="514440"/>
            </a:xfrm>
          </p:grpSpPr>
          <p:sp>
            <p:nvSpPr>
              <p:cNvPr id="408" name="Rectangle 39"/>
              <p:cNvSpPr/>
              <p:nvPr/>
            </p:nvSpPr>
            <p:spPr>
              <a:xfrm>
                <a:off x="3182760" y="594648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9" name="Rectangle 40"/>
              <p:cNvSpPr/>
              <p:nvPr/>
            </p:nvSpPr>
            <p:spPr>
              <a:xfrm>
                <a:off x="4548240" y="594648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0" name="Rectangle 41"/>
              <p:cNvSpPr/>
              <p:nvPr/>
            </p:nvSpPr>
            <p:spPr>
              <a:xfrm>
                <a:off x="7896240" y="594648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1" name="Rectangle 42"/>
              <p:cNvSpPr/>
              <p:nvPr/>
            </p:nvSpPr>
            <p:spPr>
              <a:xfrm>
                <a:off x="306360" y="594648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 of Rail Technology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2" name="Rectangle 43"/>
              <p:cNvSpPr/>
              <p:nvPr/>
            </p:nvSpPr>
            <p:spPr>
              <a:xfrm>
                <a:off x="243000" y="589428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3" name="Text Box 44"/>
              <p:cNvSpPr/>
              <p:nvPr/>
            </p:nvSpPr>
            <p:spPr>
              <a:xfrm>
                <a:off x="7659720" y="588312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414" name="Text Box 45"/>
            <p:cNvSpPr/>
            <p:nvPr/>
          </p:nvSpPr>
          <p:spPr>
            <a:xfrm>
              <a:off x="6163560" y="6364080"/>
              <a:ext cx="155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*  appointet by the Client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41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706A-B52E-4ADF-8280-628C1486756B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6" name="Textfeld 49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114480" y="1700280"/>
            <a:ext cx="5283000" cy="196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rchase of 85 new container flat wagons, each carrying 60’ in total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ce the operator’s quality gate (filter) has been applied, only the container flat wagons of the two companies A and B remai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ent: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5486400" y="1838160"/>
            <a:ext cx="4317840" cy="1806840"/>
          </a:xfrm>
          <a:prstGeom prst="rect">
            <a:avLst/>
          </a:prstGeom>
          <a:noFill/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onsible for the LCC calculation:    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m:      Baldwin Brown,  Martina Mille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ts: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/09/2014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ishes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/01/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9160" y="4098960"/>
            <a:ext cx="9688320" cy="23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Life Cycle Costs of both remaining wagons are to be calculated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Client:  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14480" y="1531800"/>
            <a:ext cx="5283000" cy="38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tarting situ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14480" y="3716280"/>
            <a:ext cx="968832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CC task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00160" y="40464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489640" y="1527120"/>
            <a:ext cx="43178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riginator of the LCC calculation, date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57320" y="6419880"/>
            <a:ext cx="494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78c96"/>
                </a:solidFill>
                <a:latin typeface="Arial"/>
              </a:rPr>
              <a:t>1):   Status logic:  I = identified,  A = Agreed  D = Decided,  P = Preconditions in place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67" name="Group 10"/>
          <p:cNvGrpSpPr/>
          <p:nvPr/>
        </p:nvGrpSpPr>
        <p:grpSpPr>
          <a:xfrm>
            <a:off x="108000" y="1135080"/>
            <a:ext cx="3146400" cy="264960"/>
            <a:chOff x="108000" y="1135080"/>
            <a:chExt cx="3146400" cy="264960"/>
          </a:xfrm>
        </p:grpSpPr>
        <p:sp>
          <p:nvSpPr>
            <p:cNvPr id="168" name="Text Box 11"/>
            <p:cNvSpPr/>
            <p:nvPr/>
          </p:nvSpPr>
          <p:spPr>
            <a:xfrm>
              <a:off x="108000" y="1135080"/>
              <a:ext cx="3146400" cy="264960"/>
            </a:xfrm>
            <a:prstGeom prst="rect">
              <a:avLst/>
            </a:prstGeom>
            <a:solidFill>
              <a:srgbClr val="d7de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tatus logic </a:t>
              </a:r>
              <a:r>
                <a:rPr b="0" lang="en-GB" sz="1200" spc="-1" strike="noStrike" baseline="30000">
                  <a:solidFill>
                    <a:srgbClr val="000000"/>
                  </a:solidFill>
                  <a:latin typeface="Arial"/>
                </a:rPr>
                <a:t>1)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:   I          A          D          P      </a:t>
              </a:r>
              <a:endParaRPr b="1" lang="en-US" sz="12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1444680" y="1174320"/>
              <a:ext cx="147600" cy="158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97964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249696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2" name="Text Box 15"/>
            <p:cNvSpPr/>
            <p:nvPr/>
          </p:nvSpPr>
          <p:spPr>
            <a:xfrm>
              <a:off x="3031920" y="1174320"/>
              <a:ext cx="1494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2F47-447F-4CE3-9497-30564CE7ED14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74" name="Textfeld 16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1891440" y="1476000"/>
            <a:ext cx="6156360" cy="4032000"/>
            <a:chOff x="1891440" y="1476000"/>
            <a:chExt cx="6156360" cy="4032000"/>
          </a:xfrm>
        </p:grpSpPr>
        <p:sp>
          <p:nvSpPr>
            <p:cNvPr id="176" name="AutoShape 3"/>
            <p:cNvSpPr/>
            <p:nvPr/>
          </p:nvSpPr>
          <p:spPr>
            <a:xfrm>
              <a:off x="1892160" y="1476360"/>
              <a:ext cx="6155640" cy="47448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4480"/>
                <a:gd name="textAreaBottom" fmla="*/ 419040 h 47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 flipV="1">
              <a:off x="1892160" y="5033880"/>
              <a:ext cx="6155640" cy="47376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3760"/>
                <a:gd name="textAreaBottom" fmla="*/ 418320 h 47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 flipV="1" rot="16200000">
              <a:off x="5803920" y="3263760"/>
              <a:ext cx="4031640" cy="45540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5400"/>
                <a:gd name="textAreaBottom" fmla="*/ 39132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9" name="AutoShape 6"/>
            <p:cNvSpPr/>
            <p:nvPr/>
          </p:nvSpPr>
          <p:spPr>
            <a:xfrm flipH="1" flipV="1" rot="5400000">
              <a:off x="103320" y="3263400"/>
              <a:ext cx="4031640" cy="45612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6120"/>
                <a:gd name="textAreaBottom" fmla="*/ 392040 h 45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80" name="Rectangle 7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/Out Framework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8440" y="5532480"/>
            <a:ext cx="173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t relevant / relevant, but not part of the 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lcul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292560" y="2028960"/>
            <a:ext cx="34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tained in the calcul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8121600" y="5767560"/>
            <a:ext cx="1728720" cy="376920"/>
          </a:xfrm>
          <a:prstGeom prst="rect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termined on 01/10/2010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y:   Baldwin Brow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8307360" y="1486080"/>
            <a:ext cx="14382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8307360" y="23097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8307360" y="31478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8307360" y="397188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8307360" y="4795920"/>
            <a:ext cx="1438200" cy="8236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152280" y="4784760"/>
            <a:ext cx="1440000" cy="638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2570040" y="244800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2570040" y="32860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container locking syste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4254480" y="244800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 replacement of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4254480" y="32860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e single Sgns-type container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593892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5954760" y="328140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4253040" y="41162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5937120" y="41162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2576520" y="40766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reprofiling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3362400" y="5805360"/>
            <a:ext cx="156528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gns-type 380 container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0" name="Rectangle 27"/>
          <p:cNvSpPr/>
          <p:nvPr/>
        </p:nvSpPr>
        <p:spPr>
          <a:xfrm>
            <a:off x="5018040" y="58053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6550200" y="580536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152280" y="148608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 of other parts of the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152280" y="23097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y consumption while operat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152280" y="31478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k access charg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152280" y="39718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ading / unload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1822320" y="58053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x. speed: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0 km/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2079-8410-4649-9611-2C1B8C497A5C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8" name="Textfeld 34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duct Breakdown Structure / System Environment 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488880" y="1628640"/>
            <a:ext cx="188604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928880" y="244944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ssis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2" name="AutoShape 5"/>
          <p:cNvCxnSpPr>
            <a:stCxn id="210" idx="2"/>
            <a:endCxn id="211" idx="1"/>
          </p:cNvCxnSpPr>
          <p:nvPr/>
        </p:nvCxnSpPr>
        <p:spPr>
          <a:xfrm flipH="1" rot="16200000">
            <a:off x="1385280" y="2135160"/>
            <a:ext cx="591120" cy="497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3" name="Rectangle 6"/>
          <p:cNvSpPr/>
          <p:nvPr/>
        </p:nvSpPr>
        <p:spPr>
          <a:xfrm>
            <a:off x="4665600" y="285264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unted par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4" name="AutoShape 7"/>
          <p:cNvCxnSpPr/>
          <p:nvPr/>
        </p:nvCxnSpPr>
        <p:spPr>
          <a:xfrm rot="10800000">
            <a:off x="2864880" y="2923560"/>
            <a:ext cx="1781640" cy="146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5" name="Rectangle 9"/>
          <p:cNvSpPr/>
          <p:nvPr/>
        </p:nvSpPr>
        <p:spPr>
          <a:xfrm>
            <a:off x="1928880" y="375912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carriag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687920" y="413532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eelse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7" name="AutoShape 11"/>
          <p:cNvCxnSpPr>
            <a:stCxn id="216" idx="1"/>
            <a:endCxn id="215" idx="2"/>
          </p:cNvCxnSpPr>
          <p:nvPr/>
        </p:nvCxnSpPr>
        <p:spPr>
          <a:xfrm rot="10800000">
            <a:off x="2872800" y="4218840"/>
            <a:ext cx="1796040" cy="146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8" name="Rectangle 12"/>
          <p:cNvSpPr/>
          <p:nvPr/>
        </p:nvSpPr>
        <p:spPr>
          <a:xfrm>
            <a:off x="1928880" y="505620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687920" y="545940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0" name="AutoShape 14"/>
          <p:cNvCxnSpPr>
            <a:stCxn id="219" idx="1"/>
            <a:endCxn id="218" idx="2"/>
          </p:cNvCxnSpPr>
          <p:nvPr/>
        </p:nvCxnSpPr>
        <p:spPr>
          <a:xfrm rot="10800000">
            <a:off x="2872800" y="5515920"/>
            <a:ext cx="1815120" cy="173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1" name="AutoShape 15"/>
          <p:cNvCxnSpPr>
            <a:stCxn id="215" idx="1"/>
            <a:endCxn id="210" idx="2"/>
          </p:cNvCxnSpPr>
          <p:nvPr/>
        </p:nvCxnSpPr>
        <p:spPr>
          <a:xfrm rot="10800000">
            <a:off x="1431360" y="2088360"/>
            <a:ext cx="497520" cy="190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2" name="AutoShape 16"/>
          <p:cNvCxnSpPr>
            <a:stCxn id="218" idx="1"/>
            <a:endCxn id="210" idx="2"/>
          </p:cNvCxnSpPr>
          <p:nvPr/>
        </p:nvCxnSpPr>
        <p:spPr>
          <a:xfrm rot="10800000">
            <a:off x="1431360" y="2088360"/>
            <a:ext cx="497520" cy="3197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3" name="Rectangle 17"/>
          <p:cNvSpPr/>
          <p:nvPr/>
        </p:nvSpPr>
        <p:spPr>
          <a:xfrm>
            <a:off x="7473960" y="340344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ainer 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7486560" y="592128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5" name="AutoShape 19"/>
          <p:cNvCxnSpPr>
            <a:stCxn id="223" idx="1"/>
            <a:endCxn id="213" idx="2"/>
          </p:cNvCxnSpPr>
          <p:nvPr/>
        </p:nvCxnSpPr>
        <p:spPr>
          <a:xfrm rot="10800000">
            <a:off x="5523840" y="3312360"/>
            <a:ext cx="1931040" cy="3214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6" name="AutoShape 20"/>
          <p:cNvCxnSpPr>
            <a:stCxn id="224" idx="1"/>
            <a:endCxn id="219" idx="2"/>
          </p:cNvCxnSpPr>
          <p:nvPr/>
        </p:nvCxnSpPr>
        <p:spPr>
          <a:xfrm rot="10800000">
            <a:off x="5546160" y="5919120"/>
            <a:ext cx="1940400" cy="2325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B998-56FB-45DC-8AB8-BEC685549025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8" name="Textfeld 20"/>
          <p:cNvSpPr/>
          <p:nvPr/>
        </p:nvSpPr>
        <p:spPr>
          <a:xfrm rot="20397600">
            <a:off x="628164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2614680" y="1484280"/>
            <a:ext cx="233676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I. Oper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2703600" y="1944720"/>
            <a:ext cx="2178000" cy="41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1 Energ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2 Staf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3 Clean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4 Making availabl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 Insurance / Communic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t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6 Other Cos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 Infrastructure us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e segmen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on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bl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track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quipment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truc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cos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5041800" y="1484280"/>
            <a:ext cx="233676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II. Maintenan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7472520" y="1484280"/>
            <a:ext cx="233820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V. Product Failur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7548480" y="1936800"/>
            <a:ext cx="2148120" cy="41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n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1  Product Failu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2  Delay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3  Malfunc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planned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1  Produc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2  Delay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3  Malfunc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00160" y="1496880"/>
            <a:ext cx="2315880" cy="468180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rchase 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316080" y="1949400"/>
            <a:ext cx="2116080" cy="411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One-off” preparation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produc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Recurrent” preparation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produc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idual valu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assembly 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commissioning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posal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rther utilis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5116680" y="1936800"/>
            <a:ext cx="2128680" cy="41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0 “One-off” prepar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ection / Diagnostic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entive maintenance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rvic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entive 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4 Condition-based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ive 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idual valu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7 Disposal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rther utilis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 system for vehicl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cerned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200160" y="40464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CC cost blocks used for the calcul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149400" y="6194520"/>
            <a:ext cx="651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)  For simplicity’s sake, the term “purchase” also comprises residual costs as well as disposal / further utilisation.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272880" y="2998800"/>
            <a:ext cx="218304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5097600" y="4092480"/>
            <a:ext cx="2182680" cy="371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5089680" y="3159000"/>
            <a:ext cx="2182680" cy="373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2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DD17-E9AE-4E08-B76B-8B58D2BEF086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3" name="Textfeld 15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urpose &amp; brief description of each op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216072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104760" y="21495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601488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rchase of a 60‘ container wagon with reduced maintenance expenditure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601488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216216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rchase of a 60‘ container wagon with well-known characteristics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104760" y="43149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rief descri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601488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pared to the existing wagon type, both the lifetime of the wheels and the reprofiling cycle are extended. The reliability of container lockings will be significantly improved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216216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lower investment cost may result in maintenance expenditure being the same as today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477C-73C4-46AA-A66A-9C7F36D38E5B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4" name="Textfeld 11"/>
          <p:cNvSpPr/>
          <p:nvPr/>
        </p:nvSpPr>
        <p:spPr>
          <a:xfrm rot="20397600">
            <a:off x="48337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200160" y="404640"/>
            <a:ext cx="8065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ariants: list of principal difference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157320" y="5267160"/>
            <a:ext cx="947736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rest rate:                 10%  (c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ation rate:                   3%  (c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fe span of wagon:      25 year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nual mileage:          115,000 k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rnings are fixed and equivalent for both options. For this reason only the cost structure of the two options will be compared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57320" y="4921200"/>
            <a:ext cx="947736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marks concerning general assumptions for all options, comments and critical factor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117360" y="1455840"/>
            <a:ext cx="2962440" cy="4604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316872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117360" y="19591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umber of wheelse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6434280" y="19591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643428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3170160" y="19591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117360" y="25369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e of running gear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6434280" y="25369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gie with two radially-adjustable wheelset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6" name="Rectangle 13"/>
          <p:cNvSpPr/>
          <p:nvPr/>
        </p:nvSpPr>
        <p:spPr>
          <a:xfrm>
            <a:off x="3170160" y="25369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gie with two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n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radially-adjustable wheelset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7" name="Rectangle 14"/>
          <p:cNvSpPr/>
          <p:nvPr/>
        </p:nvSpPr>
        <p:spPr>
          <a:xfrm>
            <a:off x="117360" y="314172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e of container lock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8" name="Rectangle 15"/>
          <p:cNvSpPr/>
          <p:nvPr/>
        </p:nvSpPr>
        <p:spPr>
          <a:xfrm>
            <a:off x="6434280" y="314172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vanced” typ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9" name="Rectangle 16"/>
          <p:cNvSpPr/>
          <p:nvPr/>
        </p:nvSpPr>
        <p:spPr>
          <a:xfrm>
            <a:off x="3170160" y="3141720"/>
            <a:ext cx="31863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ndard” typ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0" name="Rectangle 17"/>
          <p:cNvSpPr/>
          <p:nvPr/>
        </p:nvSpPr>
        <p:spPr>
          <a:xfrm>
            <a:off x="128520" y="374328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umber of container locks per wa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1" name="Rectangle 18"/>
          <p:cNvSpPr/>
          <p:nvPr/>
        </p:nvSpPr>
        <p:spPr>
          <a:xfrm>
            <a:off x="6465960" y="371808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2" name="Rectangle 19"/>
          <p:cNvSpPr/>
          <p:nvPr/>
        </p:nvSpPr>
        <p:spPr>
          <a:xfrm>
            <a:off x="3181320" y="374328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1F2A-E810-4C1A-83AE-18E62B6DB4E1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4" name="Textfeld 20"/>
          <p:cNvSpPr/>
          <p:nvPr/>
        </p:nvSpPr>
        <p:spPr>
          <a:xfrm rot="20397600">
            <a:off x="55195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osition of Cost and Cycle Data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03320" y="1455840"/>
            <a:ext cx="1950840" cy="50328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st B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3492360" y="1455840"/>
            <a:ext cx="311796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103320" y="20271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6686640" y="1455840"/>
            <a:ext cx="311760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492360" y="20271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5,0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ne-off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6686640" y="20271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9,5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ne-off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103320" y="41752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eventive maintenance: replacing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3492360" y="41752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er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7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6686640" y="41752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er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92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 survey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5" name="Rectangle 12"/>
          <p:cNvSpPr/>
          <p:nvPr/>
        </p:nvSpPr>
        <p:spPr>
          <a:xfrm>
            <a:off x="103320" y="52498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eventive maintenance: replacing container lock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3492360" y="52498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0 € per container lock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185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7" name="Rectangle 14"/>
          <p:cNvSpPr/>
          <p:nvPr/>
        </p:nvSpPr>
        <p:spPr>
          <a:xfrm>
            <a:off x="6686640" y="52498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80 € per container lock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9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 survey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8" name="Rectangle 15"/>
          <p:cNvSpPr/>
          <p:nvPr/>
        </p:nvSpPr>
        <p:spPr>
          <a:xfrm>
            <a:off x="103320" y="31035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rrective maintenance: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eprofiling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9" name="Rectangle 16"/>
          <p:cNvSpPr/>
          <p:nvPr/>
        </p:nvSpPr>
        <p:spPr>
          <a:xfrm>
            <a:off x="3492360" y="31035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er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0" name="Rectangle 17"/>
          <p:cNvSpPr/>
          <p:nvPr/>
        </p:nvSpPr>
        <p:spPr>
          <a:xfrm>
            <a:off x="6686640" y="31035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er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75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2136600" y="2027160"/>
            <a:ext cx="124812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2" name="Rectangle 19"/>
          <p:cNvSpPr/>
          <p:nvPr/>
        </p:nvSpPr>
        <p:spPr>
          <a:xfrm>
            <a:off x="2144880" y="3103560"/>
            <a:ext cx="12477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3" name="Rectangle 20"/>
          <p:cNvSpPr/>
          <p:nvPr/>
        </p:nvSpPr>
        <p:spPr>
          <a:xfrm>
            <a:off x="2144880" y="4178160"/>
            <a:ext cx="1247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4" name="Rectangle 21"/>
          <p:cNvSpPr/>
          <p:nvPr/>
        </p:nvSpPr>
        <p:spPr>
          <a:xfrm>
            <a:off x="2152800" y="5254560"/>
            <a:ext cx="124920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D5C5-AC60-45CA-8047-7874DA83023A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6" name="Textfeld 22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ble of values and net present value of variant A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F8F2-9138-400B-82D3-644D65801E7F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9" name="Textfeld 4"/>
          <p:cNvSpPr/>
          <p:nvPr/>
        </p:nvSpPr>
        <p:spPr>
          <a:xfrm rot="20397600">
            <a:off x="5976720" y="58068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00" name="Picture 6" descr=""/>
          <p:cNvPicPr/>
          <p:nvPr/>
        </p:nvPicPr>
        <p:blipFill>
          <a:blip r:embed="rId1"/>
          <a:stretch/>
        </p:blipFill>
        <p:spPr>
          <a:xfrm>
            <a:off x="22320" y="2252520"/>
            <a:ext cx="987876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4:46:34Z</dcterms:created>
  <dc:creator>Stefan Geweke</dc:creator>
  <dc:description/>
  <dc:language>en-US</dc:language>
  <cp:lastModifiedBy>Danzer, Peter</cp:lastModifiedBy>
  <dcterms:modified xsi:type="dcterms:W3CDTF">2015-05-13T13:14:47Z</dcterms:modified>
  <cp:revision>83</cp:revision>
  <dc:subject/>
  <dc:title>Slide 0</dc:title>
</cp:coreProperties>
</file>