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427E-1C54-4FC8-803E-282F82C38096}"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A849F5E-9B6E-4C2E-A090-0D5662A25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9AA89C-42A1-4D2A-8334-388FF9CCB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37E7DD9-5146-4D9C-A1DC-334FCAD9A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09365D-70F1-4161-B531-A4ED996366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1B46244-100A-4BF9-B0A6-033C31DA96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2736E8F-CE65-455B-B6A2-BC63C30390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8265F47-03C9-4E7E-8C8D-D5B5FAE533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5222C8B-C9DB-4848-93FC-3D78CAE57E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F13BC30-EAB2-4D16-81BA-F6B4C053D4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7F0DCBF-6166-4C2C-B5D2-A9E2795131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17758D1-38CA-44DC-AEB4-7840A5549B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7A30F4-996D-4BA2-AB63-206B82E7E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3090F8-8305-40D3-BB92-109357201D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6DBEE7-FD57-4731-B381-9F855B028D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7CA384C-CCB1-4DC2-A56B-C46943E0C3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B646C15-D0D3-4D93-B168-42DAE51D658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703D23D-7275-4068-A7CC-C860F4AFC2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B3879F5-7502-459E-B0AD-D71E90977A5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A6B9A6-F3B1-46DC-94D7-1CEE45DCB9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5B7667-F04E-4A24-8EF1-3C31C99FA5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7A61736-7017-4027-9336-B2DC3BD65F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896F52-5F69-4D09-9F88-793C720A72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0F79BBB-5B3E-420D-AFE6-560B2CF67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062D2E-0A66-4CD9-AA5C-BA27CE815C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866096-5538-4144-99AE-2A5C30540E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686C7BE-9879-43E3-8EF6-7504D314D9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16940B7-821A-4934-B67D-06A30CD3FD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FB5EDFE-2B9E-4909-A9E7-2241C25C77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77B535-CA9C-4B3D-9E67-1D5EE5E421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4E77669-403D-42AC-941D-7DF527C01E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D315CA6-EB53-4181-8758-8E0F827C9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26916F-3702-4961-9A92-D949CCD41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506F4A-25AE-437A-866C-53B818EEC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7320D2-3FD1-4314-80E2-E7447B3C0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3AC1CE-C8C5-4662-A394-0BE37C92E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7E049C-B920-48D9-97A3-4600D9206F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2F51-C19F-43E8-9C35-C0B253C3FC4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8795-F429-4B1F-80CA-1D41E310B3CF}"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C98F-FA14-45A4-A4BF-59CD0BFA5BA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99AC-376C-49BE-A8F4-6FCD5F441AA5}"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DAC0-F136-44B5-A818-53C5BADC345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B591-8715-4755-BDFD-48869CBC8876}" type="datetime">
              <a:rPr b="0" lang="de-DE" sz="900" spc="-1" strike="noStrike">
                <a:solidFill>
                  <a:srgbClr val="000000"/>
                </a:solidFill>
                <a:latin typeface="DB Office"/>
              </a:rPr>
              <a:t>29.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99C7-E52C-495C-8F23-3E7EEF0495F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142A-DA31-40DF-81D1-59846534EF5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DCAA-989D-481F-82EE-A19A9293AA8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3E84-68DF-42F2-A7D5-5925C7524AB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5BC0-D841-40A8-B1B9-54253E3E80C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751C-F649-4B92-AC85-CD2093F8AB7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2ABF-60FA-44B5-8D8E-0F29450625A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DD93-7187-44C9-9347-35398AA478A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BC56-66DE-4A59-9F80-83D3567F51B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44B0-7A90-4F45-AFF8-D020DE81059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99CD-1699-4AC4-A1CD-59C156C3C6B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F7A5-E4FF-432D-9A55-CC6DF302682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3BC2-D9B7-41CD-8FA3-0EB15248DC6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B065-045F-44B2-B4CD-98431C6ABE5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98A6-3D1E-4731-8754-D061214DDD5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7481-51EA-45FB-BF3F-49E8E0EF4A7B}"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